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09CB-01EE-44D6-9948-F37F44488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4A12-8AD5-4710-8C9B-881E62D4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C796-1BD6-4C20-BA7F-44507FFA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E13D-6B16-447A-99CC-9795FE38E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A1AB-6AD6-498A-A887-EDE33F30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9EDD-E3F3-4E00-9BD0-FF75BED2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15A2-5275-4901-8C04-B8CF6A79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B628-8109-4C9E-AC92-B88489C2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5875-C9D9-4DC9-8336-EA5790F1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A48E-54C9-4B16-9A19-77E0BF32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30A4-BC16-468B-9143-05CCA3E0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4729-4682-49AC-A969-09BBE4B4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DBCA-5916-4C19-B1F2-80B08CA5B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LASHCARD)</a:t>
            </a:r>
            <a:br>
              <a:rPr sz="36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at is charting the micro-stru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between what the author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y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he what)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uthor’s actions) in a p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ing ?s: what is this section about?, what info is being presented?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ing ?s (begin w/ VERB): Giving an example, interpreting data, summarizing research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Verbs: arguing, analyzing, comparing, explaining, summarizing,, predicting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ting the Micro-Structure Practice Article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(handout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ig Proble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Times-Washington Post—5-24-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graph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all of the sobering facts in The Post’s series on childhood obesity, this one stood out: “For the first time in history, American children could have a shorter life span than their parents.” In just two decades, obesity has become an epidemic touching every stratum [social class] of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graph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acting Surgeon General Galson, the prevalence of obesity has tripled among children ages 6-11 since 1980.  A 2004 report from the Centers for Disease Control and Prevention revealed that the average weight for 10-year-old boys and girls is 11 pounds more than it was in 1963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graph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tra weight devastates health.  Type 2 diabetes has increased tenfold among children and teens, and gallbladd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the organ in your body in which bile is stored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isease has tripled in children ages 6 to 17.  That’s on top of the increased risk of asthma, high blood pressure and heart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bile =a bitter green-brown liquid formed in the liver, which helps you to digest fa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all of the sobering facts in The Post’s series on childhood obesity, this one stood out: “For the first time in history, American children could have a shorter life span than their parents.” In just two decades, obesity has become an epidemic touching every stratum [social class] of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3733920"/>
          <a:ext cx="8839440" cy="2779560"/>
        </p:xfrm>
        <a:graphic>
          <a:graphicData uri="http://schemas.openxmlformats.org/drawingml/2006/table">
            <a:tbl>
              <a:tblPr/>
              <a:tblGrid>
                <a:gridCol w="4569480"/>
                <a:gridCol w="4269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the author say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the author do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all of the sobering facts in The Post’s series on childhood obesity, this one stood out: “For the first time in history, American children could have a shorter life span than their parents.” In just two decades, obesity has become an epidemic touching every stratum [social class] of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280" y="3733920"/>
          <a:ext cx="8839440" cy="2779560"/>
        </p:xfrm>
        <a:graphic>
          <a:graphicData uri="http://schemas.openxmlformats.org/drawingml/2006/table">
            <a:tbl>
              <a:tblPr/>
              <a:tblGrid>
                <a:gridCol w="4569480"/>
                <a:gridCol w="4269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the author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yin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the author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in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dhood obesity has become an epidemic in America and parents may outlive their childre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ing a direct quotation from a research project on childhood obesit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0"/>
            <a:ext cx="8839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acting Surgeon General Galson, the prevalence of obesity has tripled among children ages 6-11 since 1980.  A 2004 report from the Centers for Disease Control and Prevention revealed that the average weight for 10-year-old boys and girls is 11 pounds more than it was in 1963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52280" y="4419720"/>
          <a:ext cx="8839440" cy="2220840"/>
        </p:xfrm>
        <a:graphic>
          <a:graphicData uri="http://schemas.openxmlformats.org/drawingml/2006/table">
            <a:tbl>
              <a:tblPr/>
              <a:tblGrid>
                <a:gridCol w="4569120"/>
                <a:gridCol w="4270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the author say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the author do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280" y="-36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tra weight devastates health.  Type 2 diabetes has increased tenfold among children and teens, and gallbladd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the organ in your body in which bile is stored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isease has tripled in children ages 6 to 17.  That’s on top of the increased risk of asthma, high blood pressure and heart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bile =a bitter green-brown liquid formed in the liver, which helps you to digest fa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52280" y="4419720"/>
          <a:ext cx="8839440" cy="2220840"/>
        </p:xfrm>
        <a:graphic>
          <a:graphicData uri="http://schemas.openxmlformats.org/drawingml/2006/table">
            <a:tbl>
              <a:tblPr/>
              <a:tblGrid>
                <a:gridCol w="4569120"/>
                <a:gridCol w="4270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the author say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the author do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5:29:51Z</dcterms:created>
  <dc:creator>Nvasquez</dc:creator>
  <dc:description/>
  <dc:language>en-US</dc:language>
  <cp:lastModifiedBy>Nvasquez</cp:lastModifiedBy>
  <dcterms:modified xsi:type="dcterms:W3CDTF">2009-12-11T20:28:36Z</dcterms:modified>
  <cp:revision>13</cp:revision>
  <dc:subject/>
  <dc:title>What is charting the micro-structure?</dc:title>
</cp:coreProperties>
</file>